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8.pct" ContentType="image/x-pict"/>
  <Override PartName="/ppt/media/image10.png" ContentType="image/png"/>
  <Override PartName="/ppt/media/image9.png" ContentType="image/png"/>
  <Override PartName="/ppt/media/image17.png" ContentType="image/png"/>
  <Override PartName="/ppt/media/image16.pct" ContentType="image/x-pict"/>
  <Override PartName="/ppt/media/image14.png" ContentType="image/png"/>
  <Override PartName="/ppt/media/image6.pct" ContentType="image/x-pict"/>
  <Override PartName="/ppt/media/image3.jpeg" ContentType="image/jpeg"/>
  <Override PartName="/ppt/media/image15.png" ContentType="image/png"/>
  <Override PartName="/ppt/media/image4.pct" ContentType="image/x-pict"/>
  <Override PartName="/ppt/media/image12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pct" ContentType="image/x-pict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E180-5AC2-4C99-B8B2-1B6E31E21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692-0D76-43C0-8EE9-5326DD01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58F-5F5F-4C1C-83A3-BCDB0CCD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665-F6E7-4664-8736-33D15B48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4F2-6C2A-4183-B02F-4DF5A07C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A832-CB26-4EC7-8912-7B0F6DEE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EE2D-7EF1-4603-A46E-CA5E4325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7B2A-2C3D-4ED7-8E6A-CCDCE6D0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8F0A-25AB-4C90-A4B6-CA864DF2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F52B-E7BA-4F9C-B9B7-642247D6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79C0-913F-4615-A4B9-F80529A3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54DB-7C70-4C1F-86D8-B0722D09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426B-4F25-4329-A51C-2333CE87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4DEA-D8CE-4882-AAD5-03702EEA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77D5-A3F2-4A30-A0B7-7EC35292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96CD-5027-4595-B23B-7DF94E61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BEE3-2443-4E96-B9C6-E93DB285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D9A3-BC20-484F-AF5D-9D7B8549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893-710F-4E64-AA62-78973BEF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A61-A067-4CFF-A8AD-53DB99D4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8AE-82F2-445A-90B1-A155EE42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3C5-8C5B-4864-9CCF-305E95B0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E01-048A-4E61-B3E8-6B69868B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281-CE16-43DA-830B-23AC5E81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076-410C-463C-9CB9-768B2CFB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FFC2-A376-4012-97E3-33D26B891994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D96D-F81C-4E73-A480-EE3CA7500F90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By: Marleen, Alex, Jennifer , Omar, Guillermo</a:t>
            </a: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5562720" cy="5073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920" y="6400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splic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04960" y="17524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lanet motivation.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llege radio.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out-search.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craigweaver.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lobal-b2b-network.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illshrink.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129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11430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used to get pic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Map where they  have happe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100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lf of Illinoi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ebrask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klahom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llas Tex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ansas 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5334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tornadochaser.net/2005/may1-10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3352680" cy="2292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391520" y="198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Interesting Fact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4100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2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e3"/>
                </a:solidFill>
                <a:latin typeface="Trebuchet MS"/>
              </a:rPr>
              <a:t>As a tornado is to die out it is in a stage called roping ou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172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e3"/>
                </a:solidFill>
                <a:latin typeface="Trebuchet MS"/>
              </a:rPr>
              <a:t>The tornado will get very narrow and look like a  rop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4724280" cy="4114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7240" y="58672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b1de"/>
                </a:solidFill>
                <a:latin typeface="Arial"/>
              </a:rPr>
              <a:t>http://gallery.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hat is a Tornado?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00720" y="1981080"/>
            <a:ext cx="336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wind storm,cold air and warm air mee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l ,r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28800" y="2590920"/>
            <a:ext cx="358128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6324120"/>
            <a:ext cx="7315200" cy="30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Victim’s destroyed house</a:t>
            </a: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6680" y="1981080"/>
            <a:ext cx="5653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1295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seful Safety tip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00720" y="1981080"/>
            <a:ext cx="336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cal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basement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first aid k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uch down &amp; cover your hea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 away from window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center of ro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"/>
          <p:cNvSpPr/>
          <p:nvPr/>
        </p:nvSpPr>
        <p:spPr>
          <a:xfrm>
            <a:off x="1049400" y="264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2720" y="50292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h.noa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81080" y="2286000"/>
            <a:ext cx="335304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ngs you need during a tornado</a:t>
            </a:r>
            <a:endParaRPr b="0" i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486040" y="20574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ligh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aid k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er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1371600" cy="1339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59080" y="4745160"/>
            <a:ext cx="1346040" cy="946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895480" y="4952880"/>
            <a:ext cx="895320" cy="1219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809880" y="4952880"/>
            <a:ext cx="90972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317840" y="6172200"/>
            <a:ext cx="43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048120" y="3429000"/>
            <a:ext cx="1838160" cy="1450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rcRect l="4360" t="0" r="8449" b="4348"/>
          <a:stretch/>
        </p:blipFill>
        <p:spPr>
          <a:xfrm>
            <a:off x="1295280" y="137160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1905120" y="3429000"/>
            <a:ext cx="1122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Interesting Fact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297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ldest Known Tornado Photo - Date: 1884 August 28 Historic NWS Collection 22 miles southwest of Howard, South Dakota Courtesy NOAA/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989520" cy="4190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181480" y="603576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377"/>
                </a:solidFill>
                <a:latin typeface="Arial"/>
              </a:rPr>
              <a:t>http://www.tornado chaser.net/history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When and Where they most occur.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0960" y="18288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Rockwell Ext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Plai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Rockwell Ext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Rocky Mountai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Rockwell Ext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Tex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Rockwell Ext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Kans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summer\spr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Rockwell Ext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mid wester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4419720" cy="2982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4724280"/>
            <a:ext cx="373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underground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5:14:32Z</dcterms:created>
  <dc:creator>D83  User</dc:creator>
  <dc:description/>
  <dc:language>en-US</dc:language>
  <cp:lastModifiedBy>D83  User</cp:lastModifiedBy>
  <dcterms:modified xsi:type="dcterms:W3CDTF">2011-03-23T19:12:07Z</dcterms:modified>
  <cp:revision>35</cp:revision>
  <dc:subject/>
  <dc:title>PowerPoint Presentation</dc:title>
</cp:coreProperties>
</file>